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E3E-30D3-470A-B647-65E6ED74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9C9-6010-4F82-8393-8CF83575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98D-2595-4C36-84EA-9B721984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03E-B26B-4D80-B93D-CE683649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F2F-B5AE-4BDE-A34F-EFA51A64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9F1-3B7F-4B53-B090-4AD70BD8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B1A-DCEA-467D-BA5D-2E71BFC2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D86-02A5-4DE2-952E-80584BED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6F9-D1CC-4AF5-8709-15AC97BB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ACE-A472-43B8-A900-7257FF47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8A4-F661-4CD9-B5D2-2153EA54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021-41A2-4B25-9B0F-625E845D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6470-5A35-450F-8EE8-2D3A1EBADD9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3:41:32Z</dcterms:modified>
  <cp:revision>31</cp:revision>
  <dc:subject/>
  <dc:title>SALARIUL</dc:title>
</cp:coreProperties>
</file>